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408A-ECBD-4A4A-BAFB-8B49D960D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73F0-FDBA-40DF-BBCE-B70459612D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D388-25F7-4CE0-ADB2-C442ECFA68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48D1-FB3A-4FC2-81AC-8D7E0AB46F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8CB7-912E-4BB2-AE0E-7255C0A6E1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3C6-10BA-49D6-8E26-139A33A22D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2B2D-0014-4AA8-81AF-C00FC20163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B163-E334-4F17-AC3A-74A8CC00DF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EF4D-3F32-4434-B6C6-FBB4DC8790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157A-8BAA-4B69-8BE0-C98D20C7A4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2F9-6A9D-4B1B-9A58-4EEBC0A1F3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B690-2EB0-48B8-9164-7DD4841C3B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647-618E-4A25-BFF2-C8D427EF77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680E-AA9D-4BC3-B0CB-65D60877D4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976-79A1-4354-AFF4-2ADB308288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882A-4B3C-44EE-84A8-03D15A22CA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EA94-AF38-4514-8314-7C3D3402A0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F5D6-CD07-4310-A018-9D38C3432C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1B18-B782-4495-AC0C-32DFE5751A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0B4-445F-4EB2-A501-C1126E4C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A27-D2F1-4116-AF85-CA78D074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CD0-AD82-40C9-8ABC-761731D1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C5D-F332-4DE2-86DA-6473FDC3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4734-8C78-4228-B821-E245F975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152A-5F1B-49AF-8E4E-C700A94F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307D-34F5-417F-898F-EBC84876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E9CE-11C7-43B6-94AC-CC5F8FE5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E609-E665-430E-8E1E-68A440BD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CFC1-1CC8-439B-B03C-9E2D963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3A83-38AB-40F2-BFFB-4325F30B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490-FB62-45C3-B3CF-CB60078C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4D82-EB6C-4CC9-8621-BE6833BA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B14C-4946-42CA-B60F-E310B21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5202-0317-493A-ADEC-F6F1ACF9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6195-050A-4ECC-B424-CAF36429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5369-79A1-4D2E-BB14-1C20B57A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872-29BA-45F4-B49E-0904142C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929-9566-412C-A177-AB53A0D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474-1073-48DC-AEA6-9290B7D1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168-78F4-4A32-AED3-8E519FEA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A10-E5E1-4FA5-AE53-603F0E71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BEB-40E0-4F09-BB7B-AB15C58E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684-9973-42B5-9D32-BC60DE7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E099-4AF6-4CEC-9EE1-B95C9C07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8A93-3495-40B9-8448-6812E80460D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lin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linda Oy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Coordin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land School Distri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anging Picture on Class Pa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51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.jpg, .png or .gi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314 pixels wide (height doesn’t matter) and smaller than 75 kilobytes (kb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ixresizer (free download) to alter pi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 Class – Im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wse to Image and Up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ined Calend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calendar events (Assignments and Tests) for you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and parents will see all events that pertain to them under their combined calend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on Calendar Edit icon and click Add or click on the number in the date and click Ad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ined Calendar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Title should be specific to your class (i.e., Smith’s Algebra I Te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reoccuring events, if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or add any documents related to event such as study guides (with lin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ll classes for this ev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visibility, if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 or Save and Return to add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s events for your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and parents will see all News items that pertain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on News Edit icon and click Ad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Title should be specific to your class (i.e., FCCLA Places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National Competi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reoccuring events, if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or add any documents related to event such as Certificates (with lin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ll classes for this ev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visibility, if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 or Save and Return to add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Links to your classes by clicking the Edit ic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 Title should be relev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link (copy and paste l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to all classes, if appropri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 or Save and Return to add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loading Lesson P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My Contents, My File Loc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Add to add a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 Title should be relevant (i.e., English I Lesson Plan Week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alendar 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on “Import an existing file,” Browse and Impor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Save and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loading Lesson Plans to Cont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on Edit icon on Contents (make sure you are in a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down arrow and Choose Fo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Add and add Lesson Plan Fo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ve and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on Lesson Plan you uploaded earlier and then Click on Move To and Choose Lesson Plan (This will move your lesson plan into the newly created folder.) and Sa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you have items in your folder, you can Copy the folder to your other cla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on Lesson Plan folder and Click Copy To and choose your other classes and Sav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 Class Mater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on My Content and Old Class Materials for old lesson plans and grade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Edlin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web hosting software used to communicate with parents, students and teac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4495680" y="2438280"/>
            <a:ext cx="38102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Ed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ens home-school conn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s students with a variety of learning sty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s paper 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 organization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s for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 gr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 assignments, tests and other due d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chive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ize curricu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gial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Portfol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sh Frame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6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1182600" y="2357280"/>
            <a:ext cx="38102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s for Par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Calend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ng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sugg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 practice she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5145120" y="2470320"/>
            <a:ext cx="38098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s for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Calend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ng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suggestions (web lin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 practice she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collab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5145120" y="2470320"/>
            <a:ext cx="38098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ate Accou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ate account with activation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ate at both schools if you have classes at both camp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Accou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passw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ques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on Help for context sensitive gu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Quick 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C:\Users\melinda.oyler.ENGLAND\AppData\Local\Microsoft\Windows\Temporary Internet Files\Content.IE5\OVGS2XBP\MC900434859[1].png"/>
          <p:cNvPicPr/>
          <p:nvPr/>
        </p:nvPicPr>
        <p:blipFill>
          <a:blip r:embed="rId1"/>
          <a:stretch/>
        </p:blipFill>
        <p:spPr>
          <a:xfrm>
            <a:off x="5638680" y="2057400"/>
            <a:ext cx="30369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21:09:47Z</dcterms:created>
  <dc:creator>Student</dc:creator>
  <dc:description/>
  <dc:language>en-US</dc:language>
  <cp:lastModifiedBy>melinda.oyler</cp:lastModifiedBy>
  <dcterms:modified xsi:type="dcterms:W3CDTF">2010-08-17T19:39:18Z</dcterms:modified>
  <cp:revision>19</cp:revision>
  <dc:subject/>
  <dc:title>Edline</dc:title>
</cp:coreProperties>
</file>